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6.wmf" ContentType="image/x-wmf"/>
  <Override PartName="/ppt/media/image10.jpeg" ContentType="image/jpeg"/>
  <Override PartName="/ppt/media/image22.png" ContentType="image/png"/>
  <Override PartName="/ppt/media/image1.jpeg" ContentType="image/jpeg"/>
  <Override PartName="/ppt/media/image19.png" ContentType="image/png"/>
  <Override PartName="/ppt/media/image21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D5A-9826-4364-945A-F87F0333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0C4-0D55-45F3-B8AD-958C8533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A51-A4A5-4DEC-943D-FB3056FF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E13-B206-45A0-9B2C-E8E82D14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25B5-AC6E-4313-8A0D-DEBC503B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8689-9114-4575-A3F9-270A56A8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F37C-7C2B-4D98-976C-A0E3DFCF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37B6-C5D6-42DF-88D0-2889BAF5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D331-DED3-46B5-B6EE-DCD3F568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E626-7DE2-4213-A014-84F6B51D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CF48-8A0E-4106-97D2-122BD3F0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3D4-303E-4855-8DE9-B0F4FDE3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61CE-D10A-4126-8512-DFAB09F2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4235-162C-4639-9A02-C8F8F888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C9F1-A6B1-4773-A72E-80BA83F7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B8D4-61EC-40D5-B63C-4B9955D9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C88A-4C77-46CE-85A9-B187342E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92819-9FBC-4898-9ABA-5EFA10A9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6472B-1B34-4791-8E17-26C05A04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44DC4-A0DA-4D89-B79C-291A37AB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63A7F-5DF2-4941-A7A4-367C99B7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E7243-BA43-4ABD-8CBB-B1978B2D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DD6-5017-469B-A732-A1DA27AA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BCF68-3696-42E1-8EF5-2DE598F1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44F2A-7901-4CAF-B48F-BBF6901F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65CF0-BEA4-4A60-ADE7-1382A09B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1C984-E211-4FDC-B4C9-8DF69240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3D1FD-5093-4D78-A5DD-B33CE7C8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5D105-7534-412A-BCB7-BA55C152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2FECB-1701-4DF1-BD28-9075AA5E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DB0-0C02-44A6-9BA4-E76352E5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463-69A1-459D-894C-045F9984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6D0-D34E-416E-A61E-C0B9C952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DF2-B269-4853-91A0-00123289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F99-1AC1-4B6D-BF6E-7DEB792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16B-CE67-4F77-B56B-123F945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7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7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7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7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7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7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10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1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1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1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1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B1D8-7EB0-4B31-BD15-3B41C764145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7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0DE3-7C35-412A-98E7-574D6B030C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3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4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F4DF-2106-492F-9765-CE99C3130A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file:///tmp/home/.config/libreoffice/4/user/gallery/MS900069744%5B1%5D.wav" TargetMode="External"/><Relationship Id="rId3" Type="http://schemas.microsoft.com/office/2007/relationships/media" Target="file:///tmp/home/.config/libreoffice/4/user/gallery/MS900069744%5B1%5D.wav" TargetMode="External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png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ur Trip Around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Brendan Shepherd and Shawn Hiramatsu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97" name="Picture 5" descr="ANd9GcSLfBg0Px6tS-WdjfxVu7AxMNSXRDo0hbhuD2ubC78p0wwMxTKv"/>
          <p:cNvPicPr/>
          <p:nvPr/>
        </p:nvPicPr>
        <p:blipFill>
          <a:blip r:embed="rId1"/>
          <a:stretch/>
        </p:blipFill>
        <p:spPr>
          <a:xfrm>
            <a:off x="2438280" y="25909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98" name="03 Boomin'-Opera Trip.wma" descr=""/>
          <p:cNvPicPr/>
          <p:nvPr/>
        </p:nvPicPr>
        <p:blipFill>
          <a:blip r:embed="rId2"/>
          <a:stretch/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y The First: Mond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:00 Leave for Indianapo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:10 McDonalds $1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:00 Arrive in Indianapolis Indiana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:30 Zoo $1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45 Cheesecake Factory Lunch $ 4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:00 Children's Museum $25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:30 Indianapolis Colts Game $780.00  10:30 Leave to Salt Lake City, U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thumbnail"/>
          <p:cNvPicPr/>
          <p:nvPr/>
        </p:nvPicPr>
        <p:blipFill>
          <a:blip r:embed="rId1"/>
          <a:stretch/>
        </p:blipFill>
        <p:spPr>
          <a:xfrm>
            <a:off x="6095880" y="1828800"/>
            <a:ext cx="1773360" cy="1790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thumbnail"/>
          <p:cNvPicPr/>
          <p:nvPr/>
        </p:nvPicPr>
        <p:blipFill>
          <a:blip r:embed="rId2"/>
          <a:stretch/>
        </p:blipFill>
        <p:spPr>
          <a:xfrm>
            <a:off x="4648320" y="5316480"/>
            <a:ext cx="2324160" cy="154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68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68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Day the Second: 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:30 Get to Salt Lake City, U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:40 McDonalds $5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:00 Ski Res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30 Lunch at Ski Resort $1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:30 Dinner at Ski Resort $1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:00 Leave to San Diego, Califor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5" descr="thumbnail"/>
          <p:cNvPicPr/>
          <p:nvPr/>
        </p:nvPicPr>
        <p:blipFill>
          <a:blip r:embed="rId1"/>
          <a:stretch/>
        </p:blipFill>
        <p:spPr>
          <a:xfrm>
            <a:off x="7010280" y="487692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MC900354226[1]"/>
          <p:cNvPicPr/>
          <p:nvPr/>
        </p:nvPicPr>
        <p:blipFill>
          <a:blip r:embed="rId2"/>
          <a:stretch/>
        </p:blipFill>
        <p:spPr>
          <a:xfrm>
            <a:off x="4648320" y="4635360"/>
            <a:ext cx="1985760" cy="2222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MC900229923[1]"/>
          <p:cNvPicPr/>
          <p:nvPr/>
        </p:nvPicPr>
        <p:blipFill>
          <a:blip r:embed="rId3"/>
          <a:stretch/>
        </p:blipFill>
        <p:spPr>
          <a:xfrm>
            <a:off x="2514600" y="5054760"/>
            <a:ext cx="1625760" cy="1803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MC900446510[1]"/>
          <p:cNvPicPr/>
          <p:nvPr/>
        </p:nvPicPr>
        <p:blipFill>
          <a:blip r:embed="rId4"/>
          <a:stretch/>
        </p:blipFill>
        <p:spPr>
          <a:xfrm>
            <a:off x="304920" y="5100480"/>
            <a:ext cx="1616040" cy="1757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3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ay the Third: Wednesda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:00 a.m. Get to San Diego, 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:15 Breakfast   $5.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:45 Zoo         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:30 Lego Land        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:30 Leave and go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ANd9GcS9wkU1ffuZUSII2z4UGhBHzsYREu9hdZNCFzNcsgFR7VN3JTln"/>
          <p:cNvPicPr/>
          <p:nvPr/>
        </p:nvPicPr>
        <p:blipFill>
          <a:blip r:embed="rId1"/>
          <a:stretch/>
        </p:blipFill>
        <p:spPr>
          <a:xfrm>
            <a:off x="6676920" y="50101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13" name="Picture 9" descr="ANd9GcQ-RT-sUfImb-HfzwvvYoiaumKkCv-AzAN7bj2YxgKrm9MmuwxM8A"/>
          <p:cNvPicPr/>
          <p:nvPr/>
        </p:nvPicPr>
        <p:blipFill>
          <a:blip r:embed="rId2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1"/>
          <p:cNvSpPr/>
          <p:nvPr/>
        </p:nvSpPr>
        <p:spPr>
          <a:xfrm>
            <a:off x="3686040" y="2762280"/>
            <a:ext cx="1771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15" name="Picture 13" descr="ANd9GcSl40zuYOIYkvBRbAoyvcdqwWqG2iDsLvW23KyZK0BBIz1hRe28fg"/>
          <p:cNvPicPr/>
          <p:nvPr/>
        </p:nvPicPr>
        <p:blipFill>
          <a:blip r:embed="rId3"/>
          <a:stretch/>
        </p:blipFill>
        <p:spPr>
          <a:xfrm>
            <a:off x="3124080" y="4803840"/>
            <a:ext cx="2895840" cy="2054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394320" y="2133720"/>
            <a:ext cx="274968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ay the Fourth: Thursday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:30 a.m. Ge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nap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5" descr="ANd9GcQSl8QYzQUNgt_hzQQsPUm1nLeUrb7SWj7pJjWjO3a2fPWHWPT8L8L5Twpo"/>
          <p:cNvPicPr/>
          <p:nvPr/>
        </p:nvPicPr>
        <p:blipFill>
          <a:blip r:embed="rId1"/>
          <a:stretch/>
        </p:blipFill>
        <p:spPr>
          <a:xfrm>
            <a:off x="6019920" y="1600200"/>
            <a:ext cx="2133360" cy="1752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MC910217021[1]"/>
          <p:cNvPicPr/>
          <p:nvPr/>
        </p:nvPicPr>
        <p:blipFill>
          <a:blip r:embed="rId2"/>
          <a:stretch/>
        </p:blipFill>
        <p:spPr>
          <a:xfrm>
            <a:off x="0" y="4419720"/>
            <a:ext cx="2324160" cy="2438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MC900433856[1]"/>
          <p:cNvPicPr/>
          <p:nvPr/>
        </p:nvPicPr>
        <p:blipFill>
          <a:blip r:embed="rId3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MC900441443[1]"/>
          <p:cNvPicPr/>
          <p:nvPr/>
        </p:nvPicPr>
        <p:blipFill>
          <a:blip r:embed="rId4"/>
          <a:stretch/>
        </p:blipFill>
        <p:spPr>
          <a:xfrm>
            <a:off x="3809880" y="42670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3200400" y="2133720"/>
            <a:ext cx="1817640" cy="15415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858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as Pri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total gas price w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478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W! That’s a lot of money. We’re starting to become po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non-gas total money was $1142.60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total money spent was…drum roll please!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1620.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5" descr="ANd9GcQflELPMc-CZMC6_eAFr-fxk1RWLXxKyEwfusHYI_sWxAozxan6"/>
          <p:cNvPicPr/>
          <p:nvPr/>
        </p:nvPicPr>
        <p:blipFill>
          <a:blip r:embed="rId1"/>
          <a:stretch/>
        </p:blipFill>
        <p:spPr>
          <a:xfrm>
            <a:off x="6400800" y="0"/>
            <a:ext cx="1422360" cy="17524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11480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6324480" y="4191120"/>
            <a:ext cx="1803600" cy="1638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7642080" y="2743200"/>
            <a:ext cx="1501920" cy="14763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388620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8"/>
          <a:stretch/>
        </p:blipFill>
        <p:spPr>
          <a:xfrm>
            <a:off x="838080" y="5105520"/>
            <a:ext cx="2749680" cy="1498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0030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2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7:11:44Z</dcterms:created>
  <dc:creator>Lakeview School District</dc:creator>
  <dc:description/>
  <dc:language>en-US</dc:language>
  <cp:lastModifiedBy>Lakeview School District</cp:lastModifiedBy>
  <dcterms:modified xsi:type="dcterms:W3CDTF">2011-04-28T16:57:39Z</dcterms:modified>
  <cp:revision>9</cp:revision>
  <dc:subject/>
  <dc:title>Our Trip</dc:title>
</cp:coreProperties>
</file>